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0.png" ContentType="image/png"/>
  <Override PartName="/ppt/media/image9.jpeg" ContentType="image/jpeg"/>
  <Override PartName="/ppt/media/image8.jpeg" ContentType="image/jpeg"/>
  <Override PartName="/ppt/media/image18.jpeg" ContentType="image/jpeg"/>
  <Override PartName="/ppt/media/image7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CCF1-669C-4CDE-9869-21D6F9092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155F-643E-4694-BABB-06A12438F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C99216-F600-4B9F-A861-83B673CC8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628FA3-3ADF-428C-9FFE-A69F9007E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2B26D3-41A8-4CF5-AEE6-AC2A7A87C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AC9B87-7F7E-484D-8150-AB7FDDC0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E17C3B-7C27-4C6B-8B6C-A5A8462E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449CF8-9BF7-4521-80EB-FDDD08EF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E6CC29-3E4E-4ECE-9163-0D319AF0C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5A1C9F-3F16-4E5B-B4D7-A43170554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E40CFA-9324-407E-9182-94A7DB0B2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903A86-24E9-423D-B6DC-1D5D12BC3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807C-C1F4-48AB-A5C9-3AE9CB546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EAF692-7725-4160-A779-12ED5C131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5D9649-B093-4956-9B82-BF0EAD9DD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C745D5-0C1E-46BD-A91B-CB98E0B00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2998AA-6834-4989-AF71-F1CFA5078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519FE9-7B4C-495D-9B04-BB590BBFB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961A7A-CD59-43FE-A866-FA77EDFE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5E823A-285A-47FF-A746-FC94EF10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BC460A-7023-4C98-93A4-8F87730A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729638-9F68-4C40-9815-9C36794D0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2327A5-1A7E-48C6-ADFD-CB7E37C26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697C-487F-4483-B293-D80D67D8E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3578CD-210A-4F98-87B9-2F65CF86B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B256B2-65EA-4AB3-8E8A-E59212A5C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CE2E21-B806-4778-B508-BC2414AD6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AF981C-210A-4C81-A80D-35479B4CD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3D4C96-EA1B-4F80-A5FD-C36094780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FDB5EF-D7D0-41D8-BC83-75E6E8326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BB4435-46D1-44EC-9F50-C7236D2EB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F74303-14F3-4427-9F74-4A4A41AD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662B63-BC39-48BE-90ED-0219C300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812D13-9EC9-4FBF-BB15-2BC3A8AE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D7A32-54F6-4B48-8831-05B9E822D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DF8937-1C12-4851-BEEA-D3390437A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90D13A-386F-4CAC-A522-2FE6E3556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C8DFEC-C9EB-4D75-BB1B-25BD68FDD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8C894F-906C-400F-9151-8549FA0F0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992DF9-FEFA-4069-82D3-0AF3AA616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0C9485-1CA3-4906-88B8-FD1EDCFE1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46CDEF-DAF4-49D7-9D82-F75564E3D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616641-E637-4544-9DC9-EA8A42BFD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35EC13-4DA4-4A4C-B0B9-A32E82567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C919A5-D111-4D94-9B40-8CA62BAF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43AA2-966F-4DC4-9E3F-724E96D71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994C06-6EBD-4847-B08A-308E2421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F64B88-C0DC-47B4-B730-992A6701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20C1D3-5800-46CE-96E2-D1AA9A331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2F340F-A2AB-4261-A391-AA66BFFBC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C9E324-D1A8-4687-8B40-2E9668393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96D5D-044A-46B7-8C25-474257915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4A73D-A765-4AE4-B186-1CF6AA98C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E3D6E-97EB-4643-B9FD-55AA460BA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CBA49-E589-43EA-9BF2-D670A2827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349E5-1A17-4965-A1A0-EB470582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601D-F502-4F14-91C6-13338F6DE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86FC9-AEFF-48D1-BBE6-D09EEE56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2CCDE-E70A-4886-8FDE-451E67A0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CB8C5-2CCB-4B97-8C1D-DC2E144CE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BA2EB-A95B-4118-9ABC-90F4AB3D0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E888B-C5F0-49BC-85C0-537A7F0EE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83538-4B93-41B9-8E4A-8B515FD3D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A329C-9F2B-452E-8979-0A0A694B0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667E5-9E9D-4E99-B3E7-A874F7918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EC5F3-1B62-4B42-964E-F6D2F83FA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D3C90-02BE-47D0-A55A-941888B2F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2317-378C-4EFC-9503-B87FEEA63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7132F-91E6-4809-844C-8F2D15167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16AC6-73D0-4C0E-8767-708A9AAD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AB420-A99B-414F-8825-B6C5604F1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F590C-3F15-4C90-82FB-58B0716A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78141-9296-4873-BE5A-00DB3C4A8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30FB9-6BF0-49C0-939E-8268909C6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DCAAF-C0F5-4623-A186-0C2485CCA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FF8B2-E0A3-452B-89BB-C0CC74B41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81AC1-17E0-44B6-86DC-2A303F52A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C4482-AC4D-44E7-AF5F-AEB3D353D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4931-B0CB-475A-8981-A27999A8B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2D47C-5630-467B-92B4-441194605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F49F7-581C-42CB-80DA-B5E2625C1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3E60C-4CB7-480F-A70D-50150A7A0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D34C5-52A6-410D-9903-D4EB64C9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1A04D-AF48-4EC1-9D1B-AFFF97CC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62C6F-2E42-4307-AC39-24DFE33F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9F0EB-14A1-4525-96BE-C75E51BC2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52337-6558-45B3-ADE4-85CDC96C4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2C478-2AD3-4803-AD86-405397A88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FD124-25F5-4271-A16C-3F049B130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3C99-71DD-4362-91BE-70CDFC719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D69BF-85CB-4326-B90B-91DA894CD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63ED7-1D7D-47F4-AEBE-791944153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24DB6-E5E2-486D-A5B3-7F93D12FD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CB5D1-4B65-4145-9958-7CAD11786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3CE79-CEE9-4497-A2BE-65CC1AB18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E4F1F-CAEB-46CE-9FC6-A1C31A2F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B2C45-5781-4B27-9860-A919A1C2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8CBF8-A119-47C4-82A1-8188CCA0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A9B59-E571-4DC8-BADC-8F6FD89D5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A8ABB-500D-4E1B-8EE0-257BB4932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B2BE-7B31-4B16-AE01-CB5C07A84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BE2C3-FF73-4BD7-A394-3D607F7F1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50E20-1CE5-4EB7-8576-27623881A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1A470-DC26-46FD-8163-3BCA75B4F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4CFF8-E343-4D87-B6D9-50B282B91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B3D0F-2629-4CB5-AEE4-E00633CEA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D6AF7-867B-4A68-B1E2-2F7725145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FC2A5-BA89-4C6D-85B5-801C85BD5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E5B81-E283-4C99-B0ED-96E3ACA8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B6640-476B-4166-B49D-95D4A3EE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1F008-6EBA-426F-B51B-3A033CF3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2134-3FD1-4C42-85F4-BB466211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E0E4A-C24F-4A10-A4DB-C7DE177E8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76B99B-0F16-426B-9455-EE1320939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3FC1BB-B926-487D-A508-B4EE8FFC5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EC306A-95A3-4ADE-8D92-E53D08573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38EE91-C03F-4D62-86C3-2FF59A4F5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62D3D7-E2F9-4592-B92C-64548337C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099B79-226A-41A0-9A76-1037701C6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5B74A3-1BC3-45CA-9054-60D9B1348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5C88B0-81C5-4444-9037-C736ACA30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268747-6F3A-4BFE-8C9F-A0FE2AAC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39D8-36C6-4D08-829F-A87F245A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AC6E79-9B67-42A5-899A-F90CFDB19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5F1F7A-B114-4737-8E5D-346C9EC5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80E077-1C22-472C-A040-1E13585C7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BAA8C-302C-40B9-9EF1-E1BD08109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A8EF2E-D9B5-4323-838B-F621E100F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31A669-0C06-4967-97D4-FEBFC1B02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5D3997-59DF-4E12-9973-3A3C85457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06546F-13FC-4850-BD3D-1B6C55ABB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2E0C8D-199C-4A1B-91DB-3951F0031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ED8076-70A5-4BDA-A3D5-FE077A2E7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4FF1-BDB4-49F8-A79F-1629EC4E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AE971A-A4E8-4D8C-9187-1DECB9E6E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A91958-ED10-4DAB-96B8-E8217E4E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1F3544-CFA4-43AF-A289-2EB02B51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21D501-FB76-4502-BCE1-EF0AE5CD9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1EFC8A-AAB5-424A-B08F-A0B49BB90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6577A0-4A22-414C-A102-31F7DFA33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9EF235-0A69-4298-A5AF-00B8319A7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ACB806-75B2-47A3-9907-FBBCA9B9A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189B9A-8A85-4F4B-BA6D-369C143AE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E84458-9E81-4463-8D4B-8B345CFB6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44033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44034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44035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椭圆 44036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椭圆 44037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椭圆 44038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椭圆 44039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06F52-E9F6-475C-BAA5-03576DBA65F9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91D07-121E-418F-9794-2BD4BF188228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6ABB1-B32A-4EFF-8822-8CD30D43AB2A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A7D23-9E17-4CE8-8B7F-3DB5B7293ACE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45057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49" name="椭圆 45058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椭圆 45059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椭圆 45060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椭圆 45061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椭圆 45062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" name="椭圆 45063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5D08C-1822-4074-BA0B-E6C015534853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D164E-C2B8-4D0E-9B68-03C03452CDCE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D543A-5836-44CD-8869-7B0FCD1F9360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9963B-7FA8-4926-9CCA-BEC7489513F8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8DC03-12C8-459D-B160-55116F4087E5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E77BB-7B42-4619-A160-696095CE3F91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52C79-0AA3-4607-83EC-849CB35DCE91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7BFFE-C3F6-4E18-A1F3-D15E78ED9896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07" name="TextBox 1"/>
          <p:cNvSpPr/>
          <p:nvPr/>
        </p:nvSpPr>
        <p:spPr>
          <a:xfrm>
            <a:off x="1476360" y="134136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黑体"/>
              </a:rPr>
              <a:t>9 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明天要远足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2700360" y="1989000"/>
            <a:ext cx="3816360" cy="360"/>
            <a:chOff x="2700360" y="1989000"/>
            <a:chExt cx="3816360" cy="360"/>
          </a:xfrm>
        </p:grpSpPr>
        <p:sp>
          <p:nvSpPr>
            <p:cNvPr id="509" name="直线连接符 21"/>
            <p:cNvSpPr/>
            <p:nvPr/>
          </p:nvSpPr>
          <p:spPr>
            <a:xfrm>
              <a:off x="2700360" y="1989000"/>
              <a:ext cx="3816360" cy="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0" name=""/>
            <p:cNvSpPr txBox="1"/>
            <p:nvPr/>
          </p:nvSpPr>
          <p:spPr>
            <a:xfrm>
              <a:off x="2700360" y="1989000"/>
              <a:ext cx="3816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pic>
        <p:nvPicPr>
          <p:cNvPr id="511" name="Picture 2" descr="http://p4.so.qhimg.com/t0189899f028f22cbde.jpg"/>
          <p:cNvPicPr/>
          <p:nvPr/>
        </p:nvPicPr>
        <p:blipFill>
          <a:blip r:embed="rId1"/>
          <a:stretch/>
        </p:blipFill>
        <p:spPr>
          <a:xfrm>
            <a:off x="2162160" y="2565360"/>
            <a:ext cx="4892760" cy="3057480"/>
          </a:xfrm>
          <a:prstGeom prst="rect">
            <a:avLst/>
          </a:prstGeom>
          <a:ln w="0">
            <a:noFill/>
          </a:ln>
        </p:spPr>
      </p:pic>
      <p:sp>
        <p:nvSpPr>
          <p:cNvPr id="512" name="矩形 15365"/>
          <p:cNvSpPr txBox="1"/>
          <p:nvPr/>
        </p:nvSpPr>
        <p:spPr>
          <a:xfrm>
            <a:off x="759636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uFillTx/>
                <a:latin typeface="宋体"/>
              </a:rPr>
              <a:t>www.xkb1.com</a:t>
            </a:r>
            <a:endParaRPr b="0" i="1" lang="en-US" sz="1800" spc="-1" strike="noStrike" u="sng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uFillTx/>
              <a:latin typeface="宋体"/>
              <a:ea typeface="宋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"/>
          <p:cNvGrpSpPr/>
          <p:nvPr/>
        </p:nvGrpSpPr>
        <p:grpSpPr>
          <a:xfrm>
            <a:off x="394920" y="1773000"/>
            <a:ext cx="2073600" cy="6120"/>
            <a:chOff x="394920" y="1773000"/>
            <a:chExt cx="2073600" cy="6120"/>
          </a:xfrm>
        </p:grpSpPr>
        <p:sp>
          <p:nvSpPr>
            <p:cNvPr id="590" name="直线连接符 21"/>
            <p:cNvSpPr/>
            <p:nvPr/>
          </p:nvSpPr>
          <p:spPr>
            <a:xfrm flipV="1">
              <a:off x="395280" y="1773000"/>
              <a:ext cx="2073240" cy="612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91" name=""/>
            <p:cNvSpPr txBox="1"/>
            <p:nvPr/>
          </p:nvSpPr>
          <p:spPr>
            <a:xfrm rot="10800000">
              <a:off x="394920" y="1773000"/>
              <a:ext cx="2073240" cy="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680" bIns="-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pic>
        <p:nvPicPr>
          <p:cNvPr id="592" name="Picture 7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593" name="Text Box 5"/>
          <p:cNvSpPr/>
          <p:nvPr/>
        </p:nvSpPr>
        <p:spPr>
          <a:xfrm>
            <a:off x="324000" y="1514520"/>
            <a:ext cx="8820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d9d8ec"/>
                </a:solidFill>
                <a:uFillTx/>
                <a:latin typeface="Times New Roman"/>
                <a:ea typeface="宋体"/>
              </a:rPr>
              <a:t>认真自读课文，用心思考下面问题：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d9d8ec"/>
                </a:solidFill>
                <a:uFillTx/>
                <a:latin typeface="Times New Roman"/>
                <a:ea typeface="宋体"/>
              </a:rPr>
              <a:t>1</a:t>
            </a:r>
            <a:r>
              <a:rPr b="0" i="1" lang="zh-CN" sz="3600" spc="-1" strike="noStrike" u="sng">
                <a:solidFill>
                  <a:srgbClr val="d9d8ec"/>
                </a:solidFill>
                <a:uFillTx/>
                <a:latin typeface="Times New Roman"/>
                <a:ea typeface="宋体"/>
              </a:rPr>
              <a:t>、为什么“我”睡不着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d9d8ec"/>
                </a:solidFill>
                <a:uFillTx/>
                <a:latin typeface="Times New Roman"/>
                <a:ea typeface="宋体"/>
              </a:rPr>
              <a:t>2</a:t>
            </a:r>
            <a:r>
              <a:rPr b="0" i="1" lang="zh-CN" sz="3600" spc="-1" strike="noStrike" u="sng">
                <a:solidFill>
                  <a:srgbClr val="d9d8ec"/>
                </a:solidFill>
                <a:uFillTx/>
                <a:latin typeface="Times New Roman"/>
                <a:ea typeface="宋体"/>
              </a:rPr>
              <a:t>、你有这样的心情吗？和大家说一说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小组讨论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知道远足是什么意思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和爸爸妈妈都去过哪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远足的前一夜在想些什么呢？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WordArt 4"/>
          <p:cNvSpPr txBox="1"/>
          <p:nvPr/>
        </p:nvSpPr>
        <p:spPr>
          <a:xfrm>
            <a:off x="2484360" y="2133720"/>
            <a:ext cx="424836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uFillTx/>
                <a:latin typeface="宋体"/>
              </a:rPr>
              <a:t>听老师范读</a:t>
            </a:r>
            <a:endParaRPr b="0" i="1" lang="en-US" sz="2400" spc="-1" strike="noStrike" u="sng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uFillTx/>
              <a:latin typeface="宋体"/>
              <a:ea typeface="宋体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多种颜色的海！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5" descr="link?url=http%3A%2F%2Fimg02"/>
          <p:cNvPicPr/>
          <p:nvPr/>
        </p:nvPicPr>
        <p:blipFill>
          <a:blip r:embed="rId1"/>
          <a:stretch/>
        </p:blipFill>
        <p:spPr>
          <a:xfrm>
            <a:off x="1547640" y="2565360"/>
            <a:ext cx="554544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洁白柔软的云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5" descr="67df191017ec9192"/>
          <p:cNvPicPr/>
          <p:nvPr/>
        </p:nvPicPr>
        <p:blipFill>
          <a:blip r:embed="rId1"/>
          <a:stretch/>
        </p:blipFill>
        <p:spPr>
          <a:xfrm>
            <a:off x="2124000" y="1989000"/>
            <a:ext cx="5184720" cy="3383280"/>
          </a:xfrm>
          <a:prstGeom prst="rect">
            <a:avLst/>
          </a:prstGeom>
          <a:ln w="0">
            <a:noFill/>
          </a:ln>
        </p:spPr>
      </p:pic>
      <p:sp>
        <p:nvSpPr>
          <p:cNvPr id="601" name="矩形 28675"/>
          <p:cNvSpPr txBox="1"/>
          <p:nvPr/>
        </p:nvSpPr>
        <p:spPr>
          <a:xfrm>
            <a:off x="759636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uFillTx/>
                <a:latin typeface="宋体"/>
              </a:rPr>
              <a:t>www.xkb1.com</a:t>
            </a:r>
            <a:endParaRPr b="0" i="1" lang="en-US" sz="1800" spc="-1" strike="noStrike" u="sng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uFillTx/>
              <a:latin typeface="宋体"/>
              <a:ea typeface="宋体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WordArt 4"/>
          <p:cNvSpPr txBox="1"/>
          <p:nvPr/>
        </p:nvSpPr>
        <p:spPr>
          <a:xfrm>
            <a:off x="2195640" y="1989000"/>
            <a:ext cx="3776400" cy="178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uFillTx/>
                <a:latin typeface="宋体"/>
              </a:rPr>
              <a:t>你来读一读！</a:t>
            </a:r>
            <a:endParaRPr b="1" i="1" lang="en-US" sz="2400" spc="-1" strike="noStrike" u="sng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uFillTx/>
              <a:latin typeface="宋体"/>
              <a:ea typeface="宋体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讨    论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睡不着的时候你在做什么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WordArt 4"/>
          <p:cNvSpPr txBox="1"/>
          <p:nvPr/>
        </p:nvSpPr>
        <p:spPr>
          <a:xfrm>
            <a:off x="1476360" y="2060640"/>
            <a:ext cx="51102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uFillTx/>
                <a:latin typeface="宋体"/>
              </a:rPr>
              <a:t>试着背过它</a:t>
            </a:r>
            <a:endParaRPr b="0" i="1" lang="en-US" sz="2400" spc="-1" strike="noStrike" u="sng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uFillTx/>
              <a:latin typeface="宋体"/>
              <a:ea typeface="宋体"/>
            </a:endParaRPr>
          </a:p>
        </p:txBody>
      </p:sp>
      <p:sp>
        <p:nvSpPr>
          <p:cNvPr id="607" name="矩形 31746"/>
          <p:cNvSpPr txBox="1"/>
          <p:nvPr/>
        </p:nvSpPr>
        <p:spPr>
          <a:xfrm>
            <a:off x="759636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uFillTx/>
                <a:latin typeface="宋体"/>
              </a:rPr>
              <a:t>www.xkb1.com</a:t>
            </a:r>
            <a:endParaRPr b="0" i="1" lang="en-US" sz="1800" spc="-1" strike="noStrike" u="sng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uFillTx/>
              <a:latin typeface="宋体"/>
              <a:ea typeface="宋体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466560" y="1844640"/>
            <a:ext cx="2073600" cy="6480"/>
            <a:chOff x="466560" y="1844640"/>
            <a:chExt cx="2073600" cy="6480"/>
          </a:xfrm>
        </p:grpSpPr>
        <p:sp>
          <p:nvSpPr>
            <p:cNvPr id="610" name="直线连接符 21"/>
            <p:cNvSpPr/>
            <p:nvPr/>
          </p:nvSpPr>
          <p:spPr>
            <a:xfrm flipV="1">
              <a:off x="466560" y="1844640"/>
              <a:ext cx="2073600" cy="64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11" name=""/>
            <p:cNvSpPr txBox="1"/>
            <p:nvPr/>
          </p:nvSpPr>
          <p:spPr>
            <a:xfrm rot="10800000">
              <a:off x="466560" y="1844640"/>
              <a:ext cx="207360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pic>
        <p:nvPicPr>
          <p:cNvPr id="612" name="Picture 25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613" name="TextBox 2"/>
          <p:cNvSpPr/>
          <p:nvPr/>
        </p:nvSpPr>
        <p:spPr>
          <a:xfrm>
            <a:off x="611280" y="2276640"/>
            <a:ext cx="792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明天要远足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4" name="左大括号 3"/>
          <p:cNvSpPr/>
          <p:nvPr/>
        </p:nvSpPr>
        <p:spPr>
          <a:xfrm>
            <a:off x="1549440" y="2565360"/>
            <a:ext cx="358560" cy="3384720"/>
          </a:xfrm>
          <a:custGeom>
            <a:avLst/>
            <a:gdLst>
              <a:gd name="textAreaLeft" fmla="*/ 228960 w 358560"/>
              <a:gd name="textAreaRight" fmla="*/ 358560 w 358560"/>
              <a:gd name="textAreaTop" fmla="*/ 9000 h 3384720"/>
              <a:gd name="textAreaBottom" fmla="*/ 3375720 h 338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5"/>
                  <a:pt x="10800" y="190"/>
                </a:cubicBezTo>
                <a:lnTo>
                  <a:pt x="10800" y="10610"/>
                </a:lnTo>
                <a:cubicBezTo>
                  <a:pt x="10800" y="10705"/>
                  <a:pt x="5400" y="10800"/>
                  <a:pt x="0" y="10800"/>
                </a:cubicBezTo>
                <a:cubicBezTo>
                  <a:pt x="5400" y="10800"/>
                  <a:pt x="10800" y="10895"/>
                  <a:pt x="10800" y="10990"/>
                </a:cubicBezTo>
                <a:lnTo>
                  <a:pt x="10800" y="21410"/>
                </a:lnTo>
                <a:cubicBezTo>
                  <a:pt x="10800" y="21505"/>
                  <a:pt x="16200" y="21600"/>
                  <a:pt x="21600" y="21600"/>
                </a:cubicBezTo>
              </a:path>
            </a:pathLst>
          </a:custGeom>
          <a:noFill/>
          <a:ln w="64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5" name="TextBox 4"/>
          <p:cNvSpPr/>
          <p:nvPr/>
        </p:nvSpPr>
        <p:spPr>
          <a:xfrm>
            <a:off x="1908000" y="4508640"/>
            <a:ext cx="38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云——洁白柔软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6" name="TextBox 12"/>
          <p:cNvSpPr/>
          <p:nvPr/>
        </p:nvSpPr>
        <p:spPr>
          <a:xfrm>
            <a:off x="1835280" y="3357720"/>
            <a:ext cx="426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大海——多种颜色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7" name="左大括号 17"/>
          <p:cNvSpPr/>
          <p:nvPr/>
        </p:nvSpPr>
        <p:spPr>
          <a:xfrm flipH="1">
            <a:off x="5709600" y="2568600"/>
            <a:ext cx="431640" cy="3382920"/>
          </a:xfrm>
          <a:custGeom>
            <a:avLst/>
            <a:gdLst>
              <a:gd name="textAreaLeft" fmla="*/ 275400 w 431640"/>
              <a:gd name="textAreaRight" fmla="*/ 431640 w 431640"/>
              <a:gd name="textAreaTop" fmla="*/ 11160 h 3382920"/>
              <a:gd name="textAreaBottom" fmla="*/ 3371760 h 338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5"/>
                  <a:pt x="10800" y="229"/>
                </a:cubicBezTo>
                <a:lnTo>
                  <a:pt x="10800" y="10571"/>
                </a:lnTo>
                <a:cubicBezTo>
                  <a:pt x="10800" y="10686"/>
                  <a:pt x="5400" y="10800"/>
                  <a:pt x="0" y="10800"/>
                </a:cubicBezTo>
                <a:cubicBezTo>
                  <a:pt x="5400" y="10800"/>
                  <a:pt x="10800" y="10915"/>
                  <a:pt x="10800" y="11029"/>
                </a:cubicBezTo>
                <a:lnTo>
                  <a:pt x="10800" y="21371"/>
                </a:lnTo>
                <a:cubicBezTo>
                  <a:pt x="10800" y="21486"/>
                  <a:pt x="16200" y="21600"/>
                  <a:pt x="21600" y="21600"/>
                </a:cubicBezTo>
              </a:path>
            </a:pathLst>
          </a:custGeom>
          <a:noFill/>
          <a:ln w="64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8" name="TextBox 18"/>
          <p:cNvSpPr/>
          <p:nvPr/>
        </p:nvSpPr>
        <p:spPr>
          <a:xfrm>
            <a:off x="6683400" y="2538360"/>
            <a:ext cx="5205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对外边世界的向往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466560" y="1844640"/>
            <a:ext cx="2073600" cy="6480"/>
            <a:chOff x="466560" y="1844640"/>
            <a:chExt cx="2073600" cy="6480"/>
          </a:xfrm>
        </p:grpSpPr>
        <p:sp>
          <p:nvSpPr>
            <p:cNvPr id="621" name="直线连接符 21"/>
            <p:cNvSpPr/>
            <p:nvPr/>
          </p:nvSpPr>
          <p:spPr>
            <a:xfrm flipV="1">
              <a:off x="466560" y="1844640"/>
              <a:ext cx="2073600" cy="64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22" name=""/>
            <p:cNvSpPr txBox="1"/>
            <p:nvPr/>
          </p:nvSpPr>
          <p:spPr>
            <a:xfrm rot="10800000">
              <a:off x="466560" y="1844640"/>
              <a:ext cx="207360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pic>
        <p:nvPicPr>
          <p:cNvPr id="623" name="Picture 7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624" name="Text Box 6"/>
          <p:cNvSpPr/>
          <p:nvPr/>
        </p:nvSpPr>
        <p:spPr>
          <a:xfrm>
            <a:off x="1081080" y="2251080"/>
            <a:ext cx="64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996633"/>
                </a:solidFill>
                <a:uFillTx/>
                <a:latin typeface="华文楷体"/>
                <a:ea typeface="华文楷体"/>
              </a:rPr>
              <a:t>　　通过对大海和云的向往，体现了“我”对外边世界的向往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8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4" name="TextBox 5"/>
          <p:cNvSpPr/>
          <p:nvPr/>
        </p:nvSpPr>
        <p:spPr>
          <a:xfrm>
            <a:off x="1052640" y="2357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15" name="Picture 9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2305080" cy="609480"/>
          </a:xfrm>
          <a:prstGeom prst="rect">
            <a:avLst/>
          </a:prstGeom>
          <a:ln w="0">
            <a:noFill/>
          </a:ln>
        </p:spPr>
      </p:pic>
      <p:sp>
        <p:nvSpPr>
          <p:cNvPr id="516" name="Rectangle 6"/>
          <p:cNvSpPr/>
          <p:nvPr/>
        </p:nvSpPr>
        <p:spPr>
          <a:xfrm>
            <a:off x="3348000" y="3242520"/>
            <a:ext cx="5543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方素珍，中国台湾资深儿童文学作家，长期从事童诗、童话及绘本故事的创作、翻译以及语文教科书的编写。历任海峡两岸儿童文学研究会理事长、康轩教科书编委、香港教育出版社语文科顾问、首都师范大学学前教育学院绘本阅读中心顾问。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17" name="Picture 8" descr="60"/>
          <p:cNvPicPr/>
          <p:nvPr/>
        </p:nvPicPr>
        <p:blipFill>
          <a:blip r:embed="rId2"/>
          <a:stretch/>
        </p:blipFill>
        <p:spPr>
          <a:xfrm>
            <a:off x="324000" y="1844640"/>
            <a:ext cx="3095640" cy="37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Picture 2" descr="F:\七彩课堂插图板式封面\排版用图标、页眉页脚\标题图（终-排版用）共29个\写法宝典.jpg"/>
          <p:cNvPicPr/>
          <p:nvPr/>
        </p:nvPicPr>
        <p:blipFill>
          <a:blip r:embed="rId1"/>
          <a:stretch/>
        </p:blipFill>
        <p:spPr>
          <a:xfrm>
            <a:off x="6516720" y="765000"/>
            <a:ext cx="2087640" cy="1460520"/>
          </a:xfrm>
          <a:prstGeom prst="rect">
            <a:avLst/>
          </a:prstGeom>
          <a:ln w="0">
            <a:noFill/>
          </a:ln>
        </p:spPr>
      </p:pic>
      <p:sp>
        <p:nvSpPr>
          <p:cNvPr id="626" name="Text Box 6"/>
          <p:cNvSpPr/>
          <p:nvPr/>
        </p:nvSpPr>
        <p:spPr>
          <a:xfrm>
            <a:off x="560520" y="206064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　　全诗短短三节，三节中作者都用了同一个感叹词“唉”，三次重复，一次次加重了情感的力度。所有的兴奋、激动、盼望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……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尽在“唉”中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466560" y="1844640"/>
            <a:ext cx="2073600" cy="6480"/>
            <a:chOff x="466560" y="1844640"/>
            <a:chExt cx="2073600" cy="6480"/>
          </a:xfrm>
        </p:grpSpPr>
        <p:sp>
          <p:nvSpPr>
            <p:cNvPr id="629" name="直线连接符 21"/>
            <p:cNvSpPr/>
            <p:nvPr/>
          </p:nvSpPr>
          <p:spPr>
            <a:xfrm flipV="1">
              <a:off x="466560" y="1844640"/>
              <a:ext cx="2073600" cy="64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30" name=""/>
            <p:cNvSpPr txBox="1"/>
            <p:nvPr/>
          </p:nvSpPr>
          <p:spPr>
            <a:xfrm rot="10800000">
              <a:off x="466560" y="1844640"/>
              <a:ext cx="207360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pic>
        <p:nvPicPr>
          <p:cNvPr id="631" name="Picture 7" descr=""/>
          <p:cNvPicPr/>
          <p:nvPr/>
        </p:nvPicPr>
        <p:blipFill>
          <a:blip r:embed="rId2"/>
          <a:stretch/>
        </p:blipFill>
        <p:spPr>
          <a:xfrm>
            <a:off x="539640" y="1268280"/>
            <a:ext cx="2019240" cy="53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2"/>
          <p:cNvSpPr/>
          <p:nvPr/>
        </p:nvSpPr>
        <p:spPr>
          <a:xfrm>
            <a:off x="468360" y="633600"/>
            <a:ext cx="8351640" cy="57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收    获      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  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               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方素珍 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动了  动了 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鱼儿上当了 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哈 和我的手掌一样大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 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爸爸说 放了他吧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 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鱼小弟年纪太小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  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动了  动了 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鱼儿被骗了 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哇 比爸爸的手掌还要大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 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我也说 放了他吧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 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鱼爸爸年纪太大 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633" name=""/>
          <p:cNvGrpSpPr/>
          <p:nvPr/>
        </p:nvGrpSpPr>
        <p:grpSpPr>
          <a:xfrm>
            <a:off x="394920" y="1412640"/>
            <a:ext cx="2073600" cy="6120"/>
            <a:chOff x="394920" y="1412640"/>
            <a:chExt cx="2073600" cy="6120"/>
          </a:xfrm>
        </p:grpSpPr>
        <p:sp>
          <p:nvSpPr>
            <p:cNvPr id="634" name="直线连接符 21"/>
            <p:cNvSpPr/>
            <p:nvPr/>
          </p:nvSpPr>
          <p:spPr>
            <a:xfrm flipV="1">
              <a:off x="395280" y="1412640"/>
              <a:ext cx="2073240" cy="612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35" name=""/>
            <p:cNvSpPr txBox="1"/>
            <p:nvPr/>
          </p:nvSpPr>
          <p:spPr>
            <a:xfrm rot="10800000">
              <a:off x="394920" y="1412280"/>
              <a:ext cx="2073240" cy="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680" bIns="-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pic>
        <p:nvPicPr>
          <p:cNvPr id="636" name="Picture 7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637" name="矩形 35844"/>
          <p:cNvSpPr txBox="1"/>
          <p:nvPr/>
        </p:nvSpPr>
        <p:spPr>
          <a:xfrm>
            <a:off x="759636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uFillTx/>
                <a:latin typeface="宋体"/>
              </a:rPr>
              <a:t>www.xkb1.com</a:t>
            </a:r>
            <a:endParaRPr b="0" i="1" lang="en-US" sz="1800" spc="-1" strike="noStrike" u="sng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uFillTx/>
              <a:latin typeface="宋体"/>
              <a:ea typeface="宋体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 txBox="1"/>
          <p:nvPr/>
        </p:nvSpPr>
        <p:spPr>
          <a:xfrm>
            <a:off x="1835280" y="1483920"/>
            <a:ext cx="475272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黄昏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们两手空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轻轻松松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心里却装满了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鱼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满满在心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Text Box 6"/>
          <p:cNvSpPr/>
          <p:nvPr/>
        </p:nvSpPr>
        <p:spPr>
          <a:xfrm>
            <a:off x="1332000" y="2641680"/>
            <a:ext cx="68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华文行楷"/>
                <a:ea typeface="华文行楷"/>
              </a:rPr>
              <a:t>　　同学们喜欢外边的世界吗？可以在爸爸妈妈的陪同下多出去走走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466560" y="1844640"/>
            <a:ext cx="2073600" cy="6480"/>
            <a:chOff x="466560" y="1844640"/>
            <a:chExt cx="2073600" cy="6480"/>
          </a:xfrm>
        </p:grpSpPr>
        <p:sp>
          <p:nvSpPr>
            <p:cNvPr id="642" name="直线连接符 21"/>
            <p:cNvSpPr/>
            <p:nvPr/>
          </p:nvSpPr>
          <p:spPr>
            <a:xfrm flipV="1">
              <a:off x="466560" y="1844640"/>
              <a:ext cx="2073600" cy="64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43" name=""/>
            <p:cNvSpPr txBox="1"/>
            <p:nvPr/>
          </p:nvSpPr>
          <p:spPr>
            <a:xfrm rot="10800000">
              <a:off x="466560" y="1844640"/>
              <a:ext cx="207360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pic>
        <p:nvPicPr>
          <p:cNvPr id="644" name="Picture 7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2019240" cy="53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Text Box 3"/>
          <p:cNvSpPr/>
          <p:nvPr/>
        </p:nvSpPr>
        <p:spPr>
          <a:xfrm>
            <a:off x="1692360" y="1976400"/>
            <a:ext cx="49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同学们，明天我们也可以远足了，你们又会因为什么而睡不着觉呢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323640" y="1484280"/>
            <a:ext cx="2073600" cy="6480"/>
            <a:chOff x="323640" y="1484280"/>
            <a:chExt cx="2073600" cy="6480"/>
          </a:xfrm>
        </p:grpSpPr>
        <p:sp>
          <p:nvSpPr>
            <p:cNvPr id="647" name="直线连接符 21"/>
            <p:cNvSpPr/>
            <p:nvPr/>
          </p:nvSpPr>
          <p:spPr>
            <a:xfrm flipV="1">
              <a:off x="324000" y="1484280"/>
              <a:ext cx="2073240" cy="64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48" name=""/>
            <p:cNvSpPr txBox="1"/>
            <p:nvPr/>
          </p:nvSpPr>
          <p:spPr>
            <a:xfrm rot="10800000">
              <a:off x="323640" y="1484280"/>
              <a:ext cx="207324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pic>
        <p:nvPicPr>
          <p:cNvPr id="649" name="Picture 7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2019240" cy="53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 txBox="1"/>
          <p:nvPr/>
        </p:nvSpPr>
        <p:spPr>
          <a:xfrm>
            <a:off x="46836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明天要远足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翻过来，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睡不着。 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                     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        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翻过去 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睡不着 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                                 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翻过来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翻过去 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到底什么时候 ，才天亮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矩形 39938"/>
          <p:cNvSpPr txBox="1"/>
          <p:nvPr/>
        </p:nvSpPr>
        <p:spPr>
          <a:xfrm>
            <a:off x="759636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uFillTx/>
                <a:latin typeface="宋体"/>
              </a:rPr>
              <a:t>www.xkb1.com</a:t>
            </a:r>
            <a:endParaRPr b="0" i="1" lang="en-US" sz="1800" spc="-1" strike="noStrike" u="sng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uFillTx/>
              <a:latin typeface="宋体"/>
              <a:ea typeface="宋体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53" name="WordArt 6" descr=""/>
          <p:cNvPicPr/>
          <p:nvPr/>
        </p:nvPicPr>
        <p:blipFill>
          <a:blip r:embed="rId1"/>
          <a:stretch/>
        </p:blipFill>
        <p:spPr>
          <a:xfrm>
            <a:off x="1752480" y="1746360"/>
            <a:ext cx="6015240" cy="207324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4" descr="F:\七彩课堂插图板式封面\排版用图标、页眉页脚\标题jpg\读读背背.jpg"/>
          <p:cNvPicPr/>
          <p:nvPr/>
        </p:nvPicPr>
        <p:blipFill>
          <a:blip r:embed="rId2"/>
          <a:stretch/>
        </p:blipFill>
        <p:spPr>
          <a:xfrm>
            <a:off x="468360" y="3213000"/>
            <a:ext cx="3294000" cy="23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19" name="组合 5"/>
          <p:cNvGrpSpPr/>
          <p:nvPr/>
        </p:nvGrpSpPr>
        <p:grpSpPr>
          <a:xfrm>
            <a:off x="466560" y="1267920"/>
            <a:ext cx="2073600" cy="662040"/>
            <a:chOff x="466560" y="1267920"/>
            <a:chExt cx="2073600" cy="662040"/>
          </a:xfrm>
        </p:grpSpPr>
        <p:grpSp>
          <p:nvGrpSpPr>
            <p:cNvPr id="520" name=""/>
            <p:cNvGrpSpPr/>
            <p:nvPr/>
          </p:nvGrpSpPr>
          <p:grpSpPr>
            <a:xfrm>
              <a:off x="466560" y="1267920"/>
              <a:ext cx="2073600" cy="662040"/>
              <a:chOff x="466560" y="1267920"/>
              <a:chExt cx="2073600" cy="662040"/>
            </a:xfrm>
          </p:grpSpPr>
          <p:sp>
            <p:nvSpPr>
              <p:cNvPr id="521" name="直线连接符 21"/>
              <p:cNvSpPr/>
              <p:nvPr/>
            </p:nvSpPr>
            <p:spPr>
              <a:xfrm flipV="1">
                <a:off x="466560" y="1267920"/>
                <a:ext cx="2073600" cy="662040"/>
              </a:xfrm>
              <a:prstGeom prst="line">
                <a:avLst/>
              </a:prstGeom>
              <a:ln w="38160">
                <a:solidFill>
                  <a:srgbClr val="93b3d7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22" name=""/>
              <p:cNvSpPr txBox="1"/>
              <p:nvPr/>
            </p:nvSpPr>
            <p:spPr>
              <a:xfrm rot="10800000">
                <a:off x="466560" y="1267560"/>
                <a:ext cx="2073600" cy="662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pic>
        <p:nvPicPr>
          <p:cNvPr id="523" name="Picture 3" descr="F:\七彩课堂插图板式封面\排版用图标、页眉页脚\标题图（终-排版用）共29个\析字乐园.jpg"/>
          <p:cNvPicPr/>
          <p:nvPr/>
        </p:nvPicPr>
        <p:blipFill>
          <a:blip r:embed="rId1"/>
          <a:stretch/>
        </p:blipFill>
        <p:spPr>
          <a:xfrm>
            <a:off x="6012000" y="905040"/>
            <a:ext cx="2520720" cy="176184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11" descr=""/>
          <p:cNvPicPr/>
          <p:nvPr/>
        </p:nvPicPr>
        <p:blipFill>
          <a:blip r:embed="rId2"/>
          <a:stretch/>
        </p:blipFill>
        <p:spPr>
          <a:xfrm>
            <a:off x="468360" y="126828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525" name="WordArt 21"/>
          <p:cNvSpPr txBox="1"/>
          <p:nvPr/>
        </p:nvSpPr>
        <p:spPr>
          <a:xfrm>
            <a:off x="2124000" y="2565360"/>
            <a:ext cx="43434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22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ln w="0">
                  <a:noFill/>
                </a:ln>
                <a:solidFill>
                  <a:srgbClr val="800080"/>
                </a:solidFill>
                <a:effectLst>
                  <a:outerShdw dist="153753" dir="2700000" blurRad="0" rotWithShape="0">
                    <a:srgbClr val="4d004d"/>
                  </a:outerShdw>
                </a:effectLst>
                <a:uFillTx/>
                <a:latin typeface="宋体"/>
              </a:rPr>
              <a:t>认一认</a:t>
            </a:r>
            <a:endParaRPr b="0" i="1" lang="en-US" sz="2400" spc="-1" strike="noStrike" u="sng">
              <a:ln w="0">
                <a:noFill/>
              </a:ln>
              <a:solidFill>
                <a:srgbClr val="800080"/>
              </a:solidFill>
              <a:effectLst>
                <a:outerShdw dist="153753" dir="2700000" blurRad="0" rotWithShape="0">
                  <a:srgbClr val="4d004d"/>
                </a:outerShdw>
              </a:effectLst>
              <a:uFillTx/>
              <a:latin typeface="宋体"/>
              <a:ea typeface="宋体"/>
            </a:endParaRPr>
          </a:p>
        </p:txBody>
      </p:sp>
      <p:sp>
        <p:nvSpPr>
          <p:cNvPr id="526" name="矩形 17415"/>
          <p:cNvSpPr txBox="1"/>
          <p:nvPr/>
        </p:nvSpPr>
        <p:spPr>
          <a:xfrm>
            <a:off x="759636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uFillTx/>
                <a:latin typeface="宋体"/>
              </a:rPr>
              <a:t>www.xkb1.com</a:t>
            </a:r>
            <a:endParaRPr b="0" i="1" lang="en-US" sz="1800" spc="-1" strike="noStrike" u="sng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uFillTx/>
              <a:latin typeface="宋体"/>
              <a:ea typeface="宋体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cc"/>
                </a:solidFill>
                <a:latin typeface="Arial"/>
              </a:rPr>
              <a:t>睡   那   海     真    老师     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cc"/>
                </a:solidFill>
                <a:latin typeface="Arial"/>
              </a:rPr>
              <a:t>同     什     才    亮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29" name="组合 5"/>
          <p:cNvGrpSpPr/>
          <p:nvPr/>
        </p:nvGrpSpPr>
        <p:grpSpPr>
          <a:xfrm>
            <a:off x="466560" y="1267920"/>
            <a:ext cx="2073600" cy="662040"/>
            <a:chOff x="466560" y="1267920"/>
            <a:chExt cx="2073600" cy="662040"/>
          </a:xfrm>
        </p:grpSpPr>
        <p:grpSp>
          <p:nvGrpSpPr>
            <p:cNvPr id="530" name=""/>
            <p:cNvGrpSpPr/>
            <p:nvPr/>
          </p:nvGrpSpPr>
          <p:grpSpPr>
            <a:xfrm>
              <a:off x="466560" y="1267920"/>
              <a:ext cx="2073600" cy="662040"/>
              <a:chOff x="466560" y="1267920"/>
              <a:chExt cx="2073600" cy="662040"/>
            </a:xfrm>
          </p:grpSpPr>
          <p:sp>
            <p:nvSpPr>
              <p:cNvPr id="531" name="直线连接符 21"/>
              <p:cNvSpPr/>
              <p:nvPr/>
            </p:nvSpPr>
            <p:spPr>
              <a:xfrm flipV="1">
                <a:off x="466560" y="1267920"/>
                <a:ext cx="2073600" cy="662040"/>
              </a:xfrm>
              <a:prstGeom prst="line">
                <a:avLst/>
              </a:prstGeom>
              <a:ln w="38160">
                <a:solidFill>
                  <a:srgbClr val="93b3d7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32" name=""/>
              <p:cNvSpPr txBox="1"/>
              <p:nvPr/>
            </p:nvSpPr>
            <p:spPr>
              <a:xfrm rot="10800000">
                <a:off x="466560" y="1267560"/>
                <a:ext cx="2073600" cy="662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pic>
        <p:nvPicPr>
          <p:cNvPr id="533" name="Picture 3" descr="F:\七彩课堂插图板式封面\排版用图标、页眉页脚\标题图（终-排版用）共29个\析字乐园.jpg"/>
          <p:cNvPicPr/>
          <p:nvPr/>
        </p:nvPicPr>
        <p:blipFill>
          <a:blip r:embed="rId1"/>
          <a:stretch/>
        </p:blipFill>
        <p:spPr>
          <a:xfrm>
            <a:off x="6012000" y="905040"/>
            <a:ext cx="2520720" cy="176184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11" descr=""/>
          <p:cNvPicPr/>
          <p:nvPr/>
        </p:nvPicPr>
        <p:blipFill>
          <a:blip r:embed="rId2"/>
          <a:stretch/>
        </p:blipFill>
        <p:spPr>
          <a:xfrm>
            <a:off x="468360" y="126828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535" name="WordArt 21"/>
          <p:cNvSpPr txBox="1"/>
          <p:nvPr/>
        </p:nvSpPr>
        <p:spPr>
          <a:xfrm>
            <a:off x="2124000" y="2565360"/>
            <a:ext cx="43434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22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ln w="0">
                  <a:noFill/>
                </a:ln>
                <a:solidFill>
                  <a:srgbClr val="800080"/>
                </a:solidFill>
                <a:effectLst>
                  <a:outerShdw dist="153753" dir="2700000" blurRad="0" rotWithShape="0">
                    <a:srgbClr val="4d004d"/>
                  </a:outerShdw>
                </a:effectLst>
                <a:uFillTx/>
                <a:latin typeface="宋体"/>
              </a:rPr>
              <a:t>写一写</a:t>
            </a:r>
            <a:endParaRPr b="0" i="1" lang="en-US" sz="2400" spc="-1" strike="noStrike" u="sng">
              <a:ln w="0">
                <a:noFill/>
              </a:ln>
              <a:solidFill>
                <a:srgbClr val="800080"/>
              </a:solidFill>
              <a:effectLst>
                <a:outerShdw dist="153753" dir="2700000" blurRad="0" rotWithShape="0">
                  <a:srgbClr val="4d004d"/>
                </a:outerShdw>
              </a:effectLst>
              <a:uFillTx/>
              <a:latin typeface="宋体"/>
              <a:ea typeface="宋体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6" name="Group 2"/>
          <p:cNvGrpSpPr/>
          <p:nvPr/>
        </p:nvGrpSpPr>
        <p:grpSpPr>
          <a:xfrm>
            <a:off x="2514600" y="2057400"/>
            <a:ext cx="4114800" cy="4114800"/>
            <a:chOff x="2514600" y="2057400"/>
            <a:chExt cx="4114800" cy="4114800"/>
          </a:xfrm>
        </p:grpSpPr>
        <p:grpSp>
          <p:nvGrpSpPr>
            <p:cNvPr id="537" name=""/>
            <p:cNvGrpSpPr/>
            <p:nvPr/>
          </p:nvGrpSpPr>
          <p:grpSpPr>
            <a:xfrm>
              <a:off x="2514600" y="4114800"/>
              <a:ext cx="4114800" cy="360"/>
              <a:chOff x="2514600" y="4114800"/>
              <a:chExt cx="4114800" cy="360"/>
            </a:xfrm>
          </p:grpSpPr>
          <p:sp>
            <p:nvSpPr>
              <p:cNvPr id="538" name="Line 3"/>
              <p:cNvSpPr/>
              <p:nvPr/>
            </p:nvSpPr>
            <p:spPr>
              <a:xfrm>
                <a:off x="2514600" y="4114800"/>
                <a:ext cx="4114800" cy="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39" name=""/>
              <p:cNvSpPr txBox="1"/>
              <p:nvPr/>
            </p:nvSpPr>
            <p:spPr>
              <a:xfrm>
                <a:off x="2514600" y="4114800"/>
                <a:ext cx="4114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540" name="Group 4"/>
            <p:cNvGrpSpPr/>
            <p:nvPr/>
          </p:nvGrpSpPr>
          <p:grpSpPr>
            <a:xfrm>
              <a:off x="2514600" y="2057400"/>
              <a:ext cx="4114800" cy="4114800"/>
              <a:chOff x="2514600" y="2057400"/>
              <a:chExt cx="4114800" cy="4114800"/>
            </a:xfrm>
          </p:grpSpPr>
          <p:sp>
            <p:nvSpPr>
              <p:cNvPr id="541" name="Rectangle 5"/>
              <p:cNvSpPr/>
              <p:nvPr/>
            </p:nvSpPr>
            <p:spPr>
              <a:xfrm>
                <a:off x="2514600" y="2057400"/>
                <a:ext cx="4114800" cy="4114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542" name=""/>
              <p:cNvGrpSpPr/>
              <p:nvPr/>
            </p:nvGrpSpPr>
            <p:grpSpPr>
              <a:xfrm>
                <a:off x="4572000" y="2057400"/>
                <a:ext cx="360" cy="4114800"/>
                <a:chOff x="4572000" y="2057400"/>
                <a:chExt cx="360" cy="4114800"/>
              </a:xfrm>
            </p:grpSpPr>
            <p:sp>
              <p:nvSpPr>
                <p:cNvPr id="543" name="Line 6"/>
                <p:cNvSpPr/>
                <p:nvPr/>
              </p:nvSpPr>
              <p:spPr>
                <a:xfrm>
                  <a:off x="4572000" y="2057400"/>
                  <a:ext cx="0" cy="4114800"/>
                </a:xfrm>
                <a:prstGeom prst="line">
                  <a:avLst/>
                </a:prstGeom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44" name=""/>
                <p:cNvSpPr txBox="1"/>
                <p:nvPr/>
              </p:nvSpPr>
              <p:spPr>
                <a:xfrm>
                  <a:off x="4572000" y="2057400"/>
                  <a:ext cx="360" cy="411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</p:grpSp>
      <p:sp>
        <p:nvSpPr>
          <p:cNvPr id="545" name="Rectangle 7"/>
          <p:cNvSpPr/>
          <p:nvPr/>
        </p:nvSpPr>
        <p:spPr>
          <a:xfrm>
            <a:off x="3352320" y="2658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1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6" name="Rectangle 8"/>
          <p:cNvSpPr/>
          <p:nvPr/>
        </p:nvSpPr>
        <p:spPr>
          <a:xfrm>
            <a:off x="3123000" y="2727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1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7" name="Text Box 16"/>
          <p:cNvSpPr/>
          <p:nvPr/>
        </p:nvSpPr>
        <p:spPr>
          <a:xfrm>
            <a:off x="3276720" y="765000"/>
            <a:ext cx="287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 u="sng">
                <a:solidFill>
                  <a:srgbClr val="6767ff"/>
                </a:solidFill>
                <a:uFillTx/>
                <a:latin typeface="Arial"/>
                <a:ea typeface="楷体_GB2312"/>
              </a:rPr>
              <a:t>c</a:t>
            </a:r>
            <a:r>
              <a:rPr b="0" i="1" lang="en-US" sz="9600" spc="-1" strike="noStrike" u="sng">
                <a:solidFill>
                  <a:srgbClr val="6767ff"/>
                </a:solidFill>
                <a:uFillTx/>
                <a:latin typeface="Calibri"/>
                <a:ea typeface="宋体"/>
              </a:rPr>
              <a:t>á</a:t>
            </a:r>
            <a:r>
              <a:rPr b="0" i="1" lang="en-US" sz="9600" spc="-1" strike="noStrike" u="sng">
                <a:solidFill>
                  <a:srgbClr val="6767ff"/>
                </a:solidFill>
                <a:uFillTx/>
                <a:latin typeface="Arial"/>
                <a:ea typeface="楷体_GB2312"/>
              </a:rPr>
              <a:t>i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8" name="Text Box 17"/>
          <p:cNvSpPr/>
          <p:nvPr/>
        </p:nvSpPr>
        <p:spPr>
          <a:xfrm>
            <a:off x="2843280" y="2060640"/>
            <a:ext cx="331308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7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才</a:t>
            </a:r>
            <a:endParaRPr b="0" i="1" lang="en-US" sz="27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9" name="Group 2"/>
          <p:cNvGrpSpPr/>
          <p:nvPr/>
        </p:nvGrpSpPr>
        <p:grpSpPr>
          <a:xfrm>
            <a:off x="2514600" y="2057400"/>
            <a:ext cx="4114800" cy="4114800"/>
            <a:chOff x="2514600" y="2057400"/>
            <a:chExt cx="4114800" cy="4114800"/>
          </a:xfrm>
        </p:grpSpPr>
        <p:grpSp>
          <p:nvGrpSpPr>
            <p:cNvPr id="550" name=""/>
            <p:cNvGrpSpPr/>
            <p:nvPr/>
          </p:nvGrpSpPr>
          <p:grpSpPr>
            <a:xfrm>
              <a:off x="2514600" y="4114800"/>
              <a:ext cx="4114800" cy="360"/>
              <a:chOff x="2514600" y="4114800"/>
              <a:chExt cx="4114800" cy="360"/>
            </a:xfrm>
          </p:grpSpPr>
          <p:sp>
            <p:nvSpPr>
              <p:cNvPr id="551" name="Line 3"/>
              <p:cNvSpPr/>
              <p:nvPr/>
            </p:nvSpPr>
            <p:spPr>
              <a:xfrm>
                <a:off x="2514600" y="4114800"/>
                <a:ext cx="4114800" cy="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52" name=""/>
              <p:cNvSpPr txBox="1"/>
              <p:nvPr/>
            </p:nvSpPr>
            <p:spPr>
              <a:xfrm>
                <a:off x="2514600" y="4114800"/>
                <a:ext cx="4114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553" name="Group 4"/>
            <p:cNvGrpSpPr/>
            <p:nvPr/>
          </p:nvGrpSpPr>
          <p:grpSpPr>
            <a:xfrm>
              <a:off x="2514600" y="2057400"/>
              <a:ext cx="4114800" cy="4114800"/>
              <a:chOff x="2514600" y="2057400"/>
              <a:chExt cx="4114800" cy="4114800"/>
            </a:xfrm>
          </p:grpSpPr>
          <p:sp>
            <p:nvSpPr>
              <p:cNvPr id="554" name="Rectangle 5"/>
              <p:cNvSpPr/>
              <p:nvPr/>
            </p:nvSpPr>
            <p:spPr>
              <a:xfrm>
                <a:off x="2514600" y="2057400"/>
                <a:ext cx="4114800" cy="4114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555" name=""/>
              <p:cNvGrpSpPr/>
              <p:nvPr/>
            </p:nvGrpSpPr>
            <p:grpSpPr>
              <a:xfrm>
                <a:off x="4572000" y="2057400"/>
                <a:ext cx="360" cy="4114800"/>
                <a:chOff x="4572000" y="2057400"/>
                <a:chExt cx="360" cy="4114800"/>
              </a:xfrm>
            </p:grpSpPr>
            <p:sp>
              <p:nvSpPr>
                <p:cNvPr id="556" name="Line 6"/>
                <p:cNvSpPr/>
                <p:nvPr/>
              </p:nvSpPr>
              <p:spPr>
                <a:xfrm>
                  <a:off x="4572000" y="2057400"/>
                  <a:ext cx="0" cy="4114800"/>
                </a:xfrm>
                <a:prstGeom prst="line">
                  <a:avLst/>
                </a:prstGeom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57" name=""/>
                <p:cNvSpPr txBox="1"/>
                <p:nvPr/>
              </p:nvSpPr>
              <p:spPr>
                <a:xfrm>
                  <a:off x="4572000" y="2057400"/>
                  <a:ext cx="360" cy="411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</p:grpSp>
      <p:sp>
        <p:nvSpPr>
          <p:cNvPr id="558" name="Rectangle 7"/>
          <p:cNvSpPr/>
          <p:nvPr/>
        </p:nvSpPr>
        <p:spPr>
          <a:xfrm>
            <a:off x="3352320" y="2658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1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9" name="Rectangle 8"/>
          <p:cNvSpPr/>
          <p:nvPr/>
        </p:nvSpPr>
        <p:spPr>
          <a:xfrm>
            <a:off x="3123000" y="2727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1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0" name="Text Box 16"/>
          <p:cNvSpPr/>
          <p:nvPr/>
        </p:nvSpPr>
        <p:spPr>
          <a:xfrm>
            <a:off x="2627280" y="549360"/>
            <a:ext cx="388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 u="sng">
                <a:solidFill>
                  <a:srgbClr val="6767ff"/>
                </a:solidFill>
                <a:uFillTx/>
                <a:latin typeface="Arial"/>
                <a:ea typeface="楷体_GB2312"/>
              </a:rPr>
              <a:t>m</a:t>
            </a:r>
            <a:r>
              <a:rPr b="0" i="1" lang="en-US" sz="9600" spc="-1" strike="noStrike" u="sng">
                <a:solidFill>
                  <a:srgbClr val="6767ff"/>
                </a:solidFill>
                <a:uFillTx/>
                <a:latin typeface="Calibri"/>
                <a:ea typeface="宋体"/>
              </a:rPr>
              <a:t>í</a:t>
            </a:r>
            <a:r>
              <a:rPr b="0" i="1" lang="en-US" sz="9600" spc="-1" strike="noStrike" u="sng">
                <a:solidFill>
                  <a:srgbClr val="6767ff"/>
                </a:solidFill>
                <a:uFillTx/>
                <a:latin typeface="Arial"/>
                <a:ea typeface="楷体_GB2312"/>
              </a:rPr>
              <a:t>ng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1" name="Text Box 10"/>
          <p:cNvSpPr/>
          <p:nvPr/>
        </p:nvSpPr>
        <p:spPr>
          <a:xfrm>
            <a:off x="2843280" y="2060640"/>
            <a:ext cx="331308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7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明</a:t>
            </a:r>
            <a:endParaRPr b="0" i="1" lang="en-US" sz="27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2" name="Group 2"/>
          <p:cNvGrpSpPr/>
          <p:nvPr/>
        </p:nvGrpSpPr>
        <p:grpSpPr>
          <a:xfrm>
            <a:off x="2514600" y="2057400"/>
            <a:ext cx="4114800" cy="4114800"/>
            <a:chOff x="2514600" y="2057400"/>
            <a:chExt cx="4114800" cy="4114800"/>
          </a:xfrm>
        </p:grpSpPr>
        <p:grpSp>
          <p:nvGrpSpPr>
            <p:cNvPr id="563" name=""/>
            <p:cNvGrpSpPr/>
            <p:nvPr/>
          </p:nvGrpSpPr>
          <p:grpSpPr>
            <a:xfrm>
              <a:off x="2514600" y="4114800"/>
              <a:ext cx="4114800" cy="360"/>
              <a:chOff x="2514600" y="4114800"/>
              <a:chExt cx="4114800" cy="360"/>
            </a:xfrm>
          </p:grpSpPr>
          <p:sp>
            <p:nvSpPr>
              <p:cNvPr id="564" name="Line 3"/>
              <p:cNvSpPr/>
              <p:nvPr/>
            </p:nvSpPr>
            <p:spPr>
              <a:xfrm>
                <a:off x="2514600" y="4114800"/>
                <a:ext cx="4114800" cy="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65" name=""/>
              <p:cNvSpPr txBox="1"/>
              <p:nvPr/>
            </p:nvSpPr>
            <p:spPr>
              <a:xfrm>
                <a:off x="2514600" y="4114800"/>
                <a:ext cx="4114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566" name="Group 4"/>
            <p:cNvGrpSpPr/>
            <p:nvPr/>
          </p:nvGrpSpPr>
          <p:grpSpPr>
            <a:xfrm>
              <a:off x="2514600" y="2057400"/>
              <a:ext cx="4114800" cy="4114800"/>
              <a:chOff x="2514600" y="2057400"/>
              <a:chExt cx="4114800" cy="4114800"/>
            </a:xfrm>
          </p:grpSpPr>
          <p:sp>
            <p:nvSpPr>
              <p:cNvPr id="567" name="Rectangle 5"/>
              <p:cNvSpPr/>
              <p:nvPr/>
            </p:nvSpPr>
            <p:spPr>
              <a:xfrm>
                <a:off x="2514600" y="2057400"/>
                <a:ext cx="4114800" cy="4114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568" name=""/>
              <p:cNvGrpSpPr/>
              <p:nvPr/>
            </p:nvGrpSpPr>
            <p:grpSpPr>
              <a:xfrm>
                <a:off x="4572000" y="2057400"/>
                <a:ext cx="360" cy="4114800"/>
                <a:chOff x="4572000" y="2057400"/>
                <a:chExt cx="360" cy="4114800"/>
              </a:xfrm>
            </p:grpSpPr>
            <p:sp>
              <p:nvSpPr>
                <p:cNvPr id="569" name="Line 6"/>
                <p:cNvSpPr/>
                <p:nvPr/>
              </p:nvSpPr>
              <p:spPr>
                <a:xfrm>
                  <a:off x="4572000" y="2057400"/>
                  <a:ext cx="0" cy="4114800"/>
                </a:xfrm>
                <a:prstGeom prst="line">
                  <a:avLst/>
                </a:prstGeom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70" name=""/>
                <p:cNvSpPr txBox="1"/>
                <p:nvPr/>
              </p:nvSpPr>
              <p:spPr>
                <a:xfrm>
                  <a:off x="4572000" y="2057400"/>
                  <a:ext cx="360" cy="411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</p:grpSp>
      <p:sp>
        <p:nvSpPr>
          <p:cNvPr id="571" name="Rectangle 7"/>
          <p:cNvSpPr/>
          <p:nvPr/>
        </p:nvSpPr>
        <p:spPr>
          <a:xfrm>
            <a:off x="3352320" y="2658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1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2" name="Rectangle 8"/>
          <p:cNvSpPr/>
          <p:nvPr/>
        </p:nvSpPr>
        <p:spPr>
          <a:xfrm>
            <a:off x="3123000" y="2727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1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3" name="Text Box 16"/>
          <p:cNvSpPr/>
          <p:nvPr/>
        </p:nvSpPr>
        <p:spPr>
          <a:xfrm>
            <a:off x="3276720" y="620640"/>
            <a:ext cx="287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 u="sng">
                <a:solidFill>
                  <a:srgbClr val="6767ff"/>
                </a:solidFill>
                <a:uFillTx/>
                <a:latin typeface="Arial"/>
                <a:ea typeface="楷体_GB2312"/>
              </a:rPr>
              <a:t>tóng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4" name="Text Box 10"/>
          <p:cNvSpPr/>
          <p:nvPr/>
        </p:nvSpPr>
        <p:spPr>
          <a:xfrm>
            <a:off x="2843280" y="2060640"/>
            <a:ext cx="331308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7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同</a:t>
            </a:r>
            <a:endParaRPr b="0" i="1" lang="en-US" sz="27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Group 2"/>
          <p:cNvGrpSpPr/>
          <p:nvPr/>
        </p:nvGrpSpPr>
        <p:grpSpPr>
          <a:xfrm>
            <a:off x="2514600" y="2057400"/>
            <a:ext cx="4114800" cy="4114800"/>
            <a:chOff x="2514600" y="2057400"/>
            <a:chExt cx="4114800" cy="4114800"/>
          </a:xfrm>
        </p:grpSpPr>
        <p:grpSp>
          <p:nvGrpSpPr>
            <p:cNvPr id="576" name=""/>
            <p:cNvGrpSpPr/>
            <p:nvPr/>
          </p:nvGrpSpPr>
          <p:grpSpPr>
            <a:xfrm>
              <a:off x="2514600" y="4114800"/>
              <a:ext cx="4114800" cy="360"/>
              <a:chOff x="2514600" y="4114800"/>
              <a:chExt cx="4114800" cy="360"/>
            </a:xfrm>
          </p:grpSpPr>
          <p:sp>
            <p:nvSpPr>
              <p:cNvPr id="577" name="Line 3"/>
              <p:cNvSpPr/>
              <p:nvPr/>
            </p:nvSpPr>
            <p:spPr>
              <a:xfrm>
                <a:off x="2514600" y="4114800"/>
                <a:ext cx="4114800" cy="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78" name=""/>
              <p:cNvSpPr txBox="1"/>
              <p:nvPr/>
            </p:nvSpPr>
            <p:spPr>
              <a:xfrm>
                <a:off x="2514600" y="4114800"/>
                <a:ext cx="4114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579" name="Group 4"/>
            <p:cNvGrpSpPr/>
            <p:nvPr/>
          </p:nvGrpSpPr>
          <p:grpSpPr>
            <a:xfrm>
              <a:off x="2514600" y="2057400"/>
              <a:ext cx="4114800" cy="4114800"/>
              <a:chOff x="2514600" y="2057400"/>
              <a:chExt cx="4114800" cy="4114800"/>
            </a:xfrm>
          </p:grpSpPr>
          <p:sp>
            <p:nvSpPr>
              <p:cNvPr id="580" name="Rectangle 5"/>
              <p:cNvSpPr/>
              <p:nvPr/>
            </p:nvSpPr>
            <p:spPr>
              <a:xfrm>
                <a:off x="2514600" y="2057400"/>
                <a:ext cx="4114800" cy="4114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581" name=""/>
              <p:cNvGrpSpPr/>
              <p:nvPr/>
            </p:nvGrpSpPr>
            <p:grpSpPr>
              <a:xfrm>
                <a:off x="4572000" y="2057400"/>
                <a:ext cx="360" cy="4114800"/>
                <a:chOff x="4572000" y="2057400"/>
                <a:chExt cx="360" cy="4114800"/>
              </a:xfrm>
            </p:grpSpPr>
            <p:sp>
              <p:nvSpPr>
                <p:cNvPr id="582" name="Line 6"/>
                <p:cNvSpPr/>
                <p:nvPr/>
              </p:nvSpPr>
              <p:spPr>
                <a:xfrm>
                  <a:off x="4572000" y="2057400"/>
                  <a:ext cx="0" cy="4114800"/>
                </a:xfrm>
                <a:prstGeom prst="line">
                  <a:avLst/>
                </a:prstGeom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83" name=""/>
                <p:cNvSpPr txBox="1"/>
                <p:nvPr/>
              </p:nvSpPr>
              <p:spPr>
                <a:xfrm>
                  <a:off x="4572000" y="2057400"/>
                  <a:ext cx="360" cy="411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</p:grpSp>
      <p:sp>
        <p:nvSpPr>
          <p:cNvPr id="584" name="Rectangle 7"/>
          <p:cNvSpPr/>
          <p:nvPr/>
        </p:nvSpPr>
        <p:spPr>
          <a:xfrm>
            <a:off x="3352320" y="2658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1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5" name="Rectangle 8"/>
          <p:cNvSpPr/>
          <p:nvPr/>
        </p:nvSpPr>
        <p:spPr>
          <a:xfrm>
            <a:off x="3123000" y="2727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1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6" name="Text Box 16"/>
          <p:cNvSpPr/>
          <p:nvPr/>
        </p:nvSpPr>
        <p:spPr>
          <a:xfrm>
            <a:off x="2484360" y="765000"/>
            <a:ext cx="431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 u="sng">
                <a:solidFill>
                  <a:srgbClr val="6767ff"/>
                </a:solidFill>
                <a:uFillTx/>
                <a:latin typeface="Calibri"/>
                <a:ea typeface="宋体"/>
              </a:rPr>
              <a:t>xué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7" name="Text Box 10"/>
          <p:cNvSpPr/>
          <p:nvPr/>
        </p:nvSpPr>
        <p:spPr>
          <a:xfrm>
            <a:off x="2843280" y="2060640"/>
            <a:ext cx="331308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7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学</a:t>
            </a:r>
            <a:endParaRPr b="0" i="1" lang="en-US" sz="27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8" name="矩形 23562"/>
          <p:cNvSpPr txBox="1"/>
          <p:nvPr/>
        </p:nvSpPr>
        <p:spPr>
          <a:xfrm>
            <a:off x="759636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uFillTx/>
                <a:latin typeface="宋体"/>
              </a:rPr>
              <a:t>www.xkb1.com</a:t>
            </a:r>
            <a:endParaRPr b="0" i="1" lang="en-US" sz="1800" spc="-1" strike="noStrike" u="sng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uFillTx/>
              <a:latin typeface="宋体"/>
              <a:ea typeface="宋体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8T14:54:00Z</dcterms:created>
  <dc:creator/>
  <dc:description/>
  <dc:language>en-US</dc:language>
  <cp:lastModifiedBy>万润仪器贸易公司</cp:lastModifiedBy>
  <dcterms:modified xsi:type="dcterms:W3CDTF">2020-08-24T01:54:51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